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DC7ECC4-42F2-41BA-A603-6FDC955F7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AE1-A7D5-4343-970C-5B3A633C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651-6A54-47CA-8B9F-05A17A6A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D0C5-452C-4653-AF1E-522E8ACE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1A0-1A44-4B3E-926D-E3EF379A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8086-22DC-4678-96AE-275C8EE5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C58A-87B5-4146-A165-97487A19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C5BA-DDFD-46ED-992C-6425B53D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D28B-0C3B-46F0-A412-DE8EB900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6D79-D7F4-44D1-900B-8409AA88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3B79-841F-44D7-BFF7-37CE7716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D07E-FC8A-4903-A75E-5AA043E5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96B-7843-4D5E-A89D-48F31E90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F83C-3B72-4694-9421-D911944B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1497-08BD-4A75-89BF-40692E3D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DA1C-2151-4046-BCD9-AAFABF10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A596-D953-4FC3-98E8-D1E839B6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2EBC-47C9-4D15-BF8A-2242B2C7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F4AA-62D8-4BDB-B430-5C074850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9ED-AAFB-445B-A514-13D630FF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A35-4B95-4918-A376-9206C1BA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DF8-AD57-4989-93F4-2C4550AA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9BFD-B537-42CB-8315-FB57C6ED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804-F9F3-4DD8-A255-843504AE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C5B-683E-4F94-B942-2FF43274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D818-2BDF-4EEC-9ED7-E21430BAE6E6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0FC2-DF59-4C89-B98F-5E98B8DC5348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3ADF-73D1-4EF2-9F5B-EC40D2C1004B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mcruffy.com/Images/PatternBlocks.jpg&amp;imgrefurl=http://www.mcruffy.com/HandsOnMath.htm&amp;usg=__Dx1IV1nrXghiA2HkEF7DiMLSrOc=&amp;h=655&amp;w=997&amp;sz=69&amp;hl=en&amp;start=2&amp;tbnid=DnfM070keAMGgM:&amp;tbnh=98&amp;tbnw=149&amp;prev=/images%3Fq%3Dpattern%2Bblocks%26gbv%3D2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mcruffy.com/Images/PatternBlocks.jpg&amp;imgrefurl=http://www.mcruffy.com/HandsOnMath.htm&amp;usg=__Dx1IV1nrXghiA2HkEF7DiMLSrOc=&amp;h=655&amp;w=997&amp;sz=69&amp;hl=en&amp;start=2&amp;tbnid=DnfM070keAMGgM:&amp;tbnh=98&amp;tbnw=149&amp;prev=/images%3Fq%3Dpattern%2Bblocks%26gbv%3D2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d469b"/>
                </a:solidFill>
                <a:latin typeface="Arial"/>
              </a:rPr>
              <a:t>Linear Relations</a:t>
            </a:r>
            <a:br>
              <a:rPr sz="4800"/>
            </a:br>
            <a:r>
              <a:rPr b="1" i="1" lang="en-US" sz="4800" spc="-1" strike="noStrike">
                <a:solidFill>
                  <a:srgbClr val="0d469b"/>
                </a:solidFill>
                <a:latin typeface="Arial"/>
              </a:rPr>
              <a:t>Day 4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373392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CAMP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Greg Cla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rish Ste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Linear Expressions </a:t>
            </a:r>
            <a:br>
              <a:rPr sz="3600"/>
            </a:b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Representation Activity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60400" y="2664000"/>
            <a:ext cx="2141640" cy="1220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05320" y="2676600"/>
            <a:ext cx="2067120" cy="1184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949400" y="4191120"/>
            <a:ext cx="2273400" cy="1280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253120" y="4079880"/>
            <a:ext cx="20797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ask: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200" y="2151000"/>
            <a:ext cx="82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reate an open task for your learning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57360" y="1263600"/>
            <a:ext cx="6014880" cy="43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ocument"/>
          <p:cNvSpPr/>
          <p:nvPr/>
        </p:nvSpPr>
        <p:spPr>
          <a:xfrm>
            <a:off x="1219320" y="256392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ocument"/>
          <p:cNvSpPr/>
          <p:nvPr/>
        </p:nvSpPr>
        <p:spPr>
          <a:xfrm>
            <a:off x="2408400" y="297324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672000" y="333684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ocument"/>
          <p:cNvSpPr/>
          <p:nvPr/>
        </p:nvSpPr>
        <p:spPr>
          <a:xfrm>
            <a:off x="4883040" y="338940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ocument"/>
          <p:cNvSpPr/>
          <p:nvPr/>
        </p:nvSpPr>
        <p:spPr>
          <a:xfrm>
            <a:off x="6159600" y="278460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ocument"/>
          <p:cNvSpPr/>
          <p:nvPr/>
        </p:nvSpPr>
        <p:spPr>
          <a:xfrm>
            <a:off x="7383600" y="204480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1000" y="2689200"/>
            <a:ext cx="255600" cy="255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415800" y="787320"/>
            <a:ext cx="8331480" cy="5867640"/>
            <a:chOff x="415800" y="787320"/>
            <a:chExt cx="8331480" cy="5867640"/>
          </a:xfrm>
        </p:grpSpPr>
        <p:grpSp>
          <p:nvGrpSpPr>
            <p:cNvPr id="140" name=""/>
            <p:cNvGrpSpPr/>
            <p:nvPr/>
          </p:nvGrpSpPr>
          <p:grpSpPr>
            <a:xfrm>
              <a:off x="415800" y="787320"/>
              <a:ext cx="8331480" cy="5867640"/>
              <a:chOff x="415800" y="787320"/>
              <a:chExt cx="8331480" cy="58676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5800" y="805320"/>
                <a:ext cx="8331480" cy="58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94320" y="787320"/>
                <a:ext cx="0" cy="58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15800" y="3675240"/>
                <a:ext cx="8318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97160" y="3072240"/>
                <a:ext cx="2781360" cy="135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504720" y="100656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4720" y="3821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59760" y="389448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6800" y="878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racteristics/F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375000" y="3321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inear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50920" y="782640"/>
            <a:ext cx="5459400" cy="534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How can we open this up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33680" y="1889280"/>
            <a:ext cx="60404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is Your Picture Worth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88040" y="1523880"/>
            <a:ext cx="2549520" cy="1676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52400" y="2165400"/>
            <a:ext cx="6697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1: Individ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algebraic expression to represent your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a cost to each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your picture wor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is Your Picture Worth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88040" y="1523880"/>
            <a:ext cx="2549520" cy="1676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52400" y="2165400"/>
            <a:ext cx="6697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2:  In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e your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algebraic expression to represent your pictures comb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algebraic expression to compare your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5800" y="599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ing Equations using Gizmo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14440" y="1612800"/>
            <a:ext cx="6121440" cy="3799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71600" y="5567400"/>
            <a:ext cx="625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e 6 – 8 Algebra                                                           Solving expressions, equations and inequalities         Modeling One Step Equations – Activit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Solving Equations 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Using Algebra Tile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) 2x + 3 =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) 5x + 1 = 2x +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) x – 2 = -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381600">
            <a:off x="5470920" y="4034520"/>
            <a:ext cx="2206800" cy="430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4398840"/>
            <a:ext cx="430200" cy="43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84440" y="1965240"/>
            <a:ext cx="5830920" cy="46767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Solving Equations: </a:t>
            </a:r>
            <a:br>
              <a:rPr sz="4000"/>
            </a:b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National Library of Virtual Manipulatives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Solving Equations By Graphing Each Side: Gizmo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40040" y="2257560"/>
            <a:ext cx="5667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ask: In pai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200" y="2151000"/>
            <a:ext cx="82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reate an open task for solving equa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86200" y="3719520"/>
            <a:ext cx="3698640" cy="2478240"/>
            <a:chOff x="2986200" y="3719520"/>
            <a:chExt cx="3698640" cy="2478240"/>
          </a:xfrm>
        </p:grpSpPr>
        <p:sp>
          <p:nvSpPr>
            <p:cNvPr id="118" name="Cloud"/>
            <p:cNvSpPr/>
            <p:nvPr/>
          </p:nvSpPr>
          <p:spPr>
            <a:xfrm>
              <a:off x="2986200" y="3719520"/>
              <a:ext cx="3698640" cy="24782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87800" y="4316400"/>
              <a:ext cx="336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change Open Task with another Pair.   Try it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132600" y="4498920"/>
            <a:ext cx="2098440" cy="1406520"/>
            <a:chOff x="6132600" y="4498920"/>
            <a:chExt cx="2098440" cy="1406520"/>
          </a:xfrm>
        </p:grpSpPr>
        <p:sp>
          <p:nvSpPr>
            <p:cNvPr id="121" name="Cloud"/>
            <p:cNvSpPr/>
            <p:nvPr/>
          </p:nvSpPr>
          <p:spPr>
            <a:xfrm>
              <a:off x="6132600" y="4498920"/>
              <a:ext cx="2098440" cy="140652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13400" y="4813200"/>
              <a:ext cx="156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vide 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Steele</cp:lastModifiedBy>
  <dcterms:modified xsi:type="dcterms:W3CDTF">2009-08-05T12:06:50Z</dcterms:modified>
  <cp:revision>139</cp:revision>
  <dc:subject/>
  <dc:title>Math GAINS 2008-09</dc:title>
</cp:coreProperties>
</file>